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DA9-43E9-4B71-BF03-E7EEC154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E4F-8697-46AA-B369-101ABC7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1C0-1766-4745-96C2-91D4B374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F0A-CA59-44AC-9EBF-03C3E57B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9E2-DA19-4310-A3EF-9D3EACD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95A-AEE0-4E56-B078-8A0C1410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38B-4FC3-4F97-A116-7975B26C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5A2-A453-40FF-9F17-1B0CF53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100-7684-48F7-B042-B04E8F3E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3F2-60F8-4A2F-961F-7858C46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4E5-E8CB-4F84-A09C-55BA1E2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151-12A5-44D3-AA9D-696B45F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F45-7886-4FD1-8548-5DD911B2CE07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Título 1"/>
          <p:cNvSpPr/>
          <p:nvPr/>
        </p:nvSpPr>
        <p:spPr>
          <a:xfrm>
            <a:off x="1657440" y="333360"/>
            <a:ext cx="734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DE MATO GROSSO DO SUL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CRETARIA DE ESTADO DE EDUCAÇÃ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SCOLA ESTADUAL MIGUEL SUTIL - Cód. 278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Rua Francisco Faustino nº 340 – Centr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elefone nº (67) 3286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3" descr=""/>
          <p:cNvPicPr/>
          <p:nvPr/>
        </p:nvPicPr>
        <p:blipFill>
          <a:blip r:embed="rId2"/>
          <a:stretch/>
        </p:blipFill>
        <p:spPr>
          <a:xfrm>
            <a:off x="576360" y="731880"/>
            <a:ext cx="10810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Subtítulo 2"/>
          <p:cNvSpPr/>
          <p:nvPr/>
        </p:nvSpPr>
        <p:spPr>
          <a:xfrm>
            <a:off x="755640" y="3963960"/>
            <a:ext cx="7632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Marli Borges da Co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Prof.ª Gerenciadora de 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educacionais e recursos midiá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Progetec – Camapuã/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s alunos reproduzirão por escrito uma história usando o editor de texto onde serão avaliados pela escrit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r o aluno através de resumo feitos em slid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dir para o aluno fazer um trabalho em slides e apresentar usando o projetor multimídia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dir para o aluno fazer um vídeo de entrevista e apresentar o vídeo através do projetor multimídias e suas orientações servirão de instrumento de avalia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ção que ocorreu na escola com o uso das 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1412640"/>
            <a:ext cx="8507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professora de Língua Portuguesa realizou uma avaliação usando o face da escola; onde os alunos tiveram que escrever o motivo de gostarem de estudar na escola e o texto que teve mais curtidas e que não teve erros de português ganhou dois pont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professora de Língua Portuguesa realizou uma avaliação onde explicou aos alunos o que é um e-mail e como usá-lo . Após a explicação os alunos tiveram que abrir um e-mail e enviar um e-mail para a professo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azer pesquisa sobre o texto e após criar e configurar  slides de forma criativ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sar o multimídia para os alunos apresentarem os trabalhos realizad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r a escrita do aluno através de textos digitad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valiar o aluno através de gamificação com mecânica de pontuação, prêmios, missões, desafios, rank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00:54:58Z</dcterms:created>
  <dc:creator>Marli Borges</dc:creator>
  <dc:description/>
  <dc:language>en-US</dc:language>
  <cp:lastModifiedBy>Marli Borges</cp:lastModifiedBy>
  <dcterms:modified xsi:type="dcterms:W3CDTF">2015-08-30T18:49:54Z</dcterms:modified>
  <cp:revision>41</cp:revision>
  <dc:subject/>
  <dc:title>ESTADO DE MATO GROSSO DO SUL    SECRETARIA DE ESTADO DE EDUCAÇÃO ESCOLA ESTADUAL MIGUEL SUTIL - Cód. 278  Rua Francisco Faustino nº 340 – Centro Telefone nº (67) 3286-1883</dc:title>
</cp:coreProperties>
</file>